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B916A-B2C7-43F6-A92D-D6ABCCBF8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13F79-2D9E-4990-8C04-C7A05AE1D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6F1BA-4E50-4021-8E0B-AA40BED60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F3137-589A-43D2-A76C-3902AF7B7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5E5E0-DECB-4BF1-8161-C46360C7D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DAEA6-76CC-4EA7-97F8-820393B72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5C4C7-56BF-4094-B1F4-C816AE1CE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9A770-B7C6-403E-B86D-437252CA7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44A71-43D3-4B4A-BE38-7584A48BB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AF787-98FE-4A81-AE07-242546A2F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787C2-1CED-4E9D-94FC-15A00345F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89110-3EA3-4C11-8A9A-4986A6850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5CB8E-1D69-44AB-8A70-863BBC42F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E3B2E-5C1F-4AA6-BF70-D151F0858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34833-B422-45F4-BDB3-667655F06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01C3B-5C76-43D9-A927-836268308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29D32-572A-4155-96C5-820769EED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E341C-E545-473D-9D2F-B4CDB5BD3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317D1-99DB-4E72-891C-8D074B998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F8B39-9683-4E5F-B726-FDC714C38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52A9E-05D7-41D8-A007-BDF5355B0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6F0E0-410E-4B1A-B862-115515E4B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36C4F-B3BF-488C-BF14-D6D29EEB7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42505-BB84-407F-9C49-6B6698DE6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E781D-5609-459C-A787-33560253C4B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F3499-1C7C-464C-AA28-3269BB274AE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0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iz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7593"/>
          <a:stretch/>
        </p:blipFill>
        <p:spPr>
          <a:xfrm>
            <a:off x="3456000" y="0"/>
            <a:ext cx="568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v 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vent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6322"/>
          <a:stretch/>
        </p:blipFill>
        <p:spPr>
          <a:xfrm>
            <a:off x="914400" y="1447920"/>
            <a:ext cx="7315200" cy="53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and Interna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- datagrams or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station and network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tion requests logical connection (virtual circui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packets identified as belonging to that connection &amp; sequentially numb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delivers packets in sequ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virtual circuit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X.2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virtual circuit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handled independent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datagram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datagram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dicated route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handles each packet separ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packets for the same external virtual circuit may take different internal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buffers at destination node for re-orde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treated independently by both network and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does not see any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sends one packe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ts up logical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04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11118"/>
          <a:stretch/>
        </p:blipFill>
        <p:spPr>
          <a:xfrm>
            <a:off x="3292560" y="0"/>
            <a:ext cx="5851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828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6920"/>
          <a:stretch/>
        </p:blipFill>
        <p:spPr>
          <a:xfrm>
            <a:off x="3576600" y="0"/>
            <a:ext cx="5567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, crucial aspect of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rec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i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ma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Criter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selection of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st c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Stallings appendix 10A for 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switching designed for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s dedicated to a particular c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ch of the time a data connection is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th ends must operate at the same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sting of Rou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25468"/>
          <a:stretch/>
        </p:blipFill>
        <p:spPr>
          <a:xfrm>
            <a:off x="914400" y="1447920"/>
            <a:ext cx="7086600" cy="52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cision Time and Pl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or virtual circuit ba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de by each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Information Source and Update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usually based on knowledge of network (not alway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use local 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ll nodes on a potential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 info from 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is network info held by nodes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- never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aptive - regular upd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Strate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permanent route for each source to destination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routes using a least cost algorithm (appendix 10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fixed, at least until a change in network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b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7485"/>
          <a:stretch/>
        </p:blipFill>
        <p:spPr>
          <a:xfrm>
            <a:off x="3965400" y="0"/>
            <a:ext cx="517860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ent by node to every neighb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ming packets retransmitted on every link except incoming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tually a number of copies will arrive at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is uniquely numbered so duplicates can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can remember packets already forwarded to keep network load in bou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include a hop count in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8162"/>
          <a:stretch/>
        </p:blipFill>
        <p:spPr>
          <a:xfrm>
            <a:off x="4341960" y="0"/>
            <a:ext cx="4802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perties of 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possible routes are t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packet will have taken minimum hop count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used to set up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nodes ar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ful to distribute information (e.g. rout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ndom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selects one outgoing path for retransmission of incoming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on can be random or 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elect outgoing path based on probability calc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is typically not least cost nor 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in smal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1000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messages split into series of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acket contains a portion of user data plus some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(addressing)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received, stored briefly (buffered) and past on to the next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ore and 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almost all packet switching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change as conditions on the network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l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info about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isions more co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eoff between quality of network info an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cting too quickly can cause oscil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o slowly to be releva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 - 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id congestion control (See chapter 1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realize theoretical benef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ass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information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(isol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 to outgoing link with shortest que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include bias for each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rely used - do not make use of easily available inf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olated 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19396"/>
          <a:stretch/>
        </p:blipFill>
        <p:spPr>
          <a:xfrm>
            <a:off x="609480" y="1487520"/>
            <a:ext cx="7848720" cy="39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6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adap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d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llman-Ford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exchanges delay vector with neighb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 routing table based on incom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n't consider line speed, just queu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length not a good measurement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ds slowly to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measured di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ijkstra’s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under light and medium lo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little correlation between reported delays and those experienc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st calculations chang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average delay over last 10 seco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ize based on current value and previous res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host and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most universal on packet switched networks and packet switching i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three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attached station and link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erminal equipment DTE (user equip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ircuit terminating equipment DCE (nod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physical layer specification X.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transfer across physical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of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Lin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tocol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36479"/>
          <a:stretch/>
        </p:blipFill>
        <p:spPr>
          <a:xfrm>
            <a:off x="457200" y="2147760"/>
            <a:ext cx="807732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s (virtual circuits) between subscri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Use of Virtual Circu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6433"/>
          <a:stretch/>
        </p:blipFill>
        <p:spPr>
          <a:xfrm>
            <a:off x="990720" y="1371600"/>
            <a:ext cx="6933960" cy="540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ally establis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network assigned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al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350"/>
          <a:stretch/>
        </p:blipFill>
        <p:spPr>
          <a:xfrm>
            <a:off x="3556080" y="0"/>
            <a:ext cx="5587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6941"/>
          <a:stretch/>
        </p:blipFill>
        <p:spPr>
          <a:xfrm>
            <a:off x="457200" y="1371600"/>
            <a:ext cx="8153280" cy="52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can establish 4095 simultaneous virtual circuits with other DTEs over a single DTC-DCE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ontain 12 bit virtual circui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Numbe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5415"/>
          <a:stretch/>
        </p:blipFill>
        <p:spPr>
          <a:xfrm>
            <a:off x="1676520" y="1371600"/>
            <a:ext cx="579096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and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S (Chapter 7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equ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te packet sequen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longer blocks of data across network with smaller packet size without loss of block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 bit 1, D bit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or more A followed by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et and Restar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initialize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s set to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in transit l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higher level protocol to recover lost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ggered by loss of packet, sequence number error, congestion, loss of network internal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quivalent to a clear request on all virtual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mporary loss of network a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effici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node to node link can be shared by many packets ov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queued and transmitted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con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o the local node at its ow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buffer data if required to equalize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accepted even when network is bus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may slow d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 Chapter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.25 info from 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 from Co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Techniq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breaks long message into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sent one at a time to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handled in two w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treated independ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an take any practical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go mi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receiver to re-order packets and recover from miss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planned route established before any packets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request and call accept packets establish connection (handsh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contains a virtual circuit identifier instead of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outing decisions required for each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ear request to drop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dedicat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s v 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can provide sequencing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are forwarded more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routing decisions to m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ss of a node looses all circuits through that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all setup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if few pack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ing can be used to avoid congested parts of the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1T17:14:53Z</dcterms:created>
  <dc:creator>Adrian J Pullin</dc:creator>
  <dc:description/>
  <dc:language>en-US</dc:language>
  <cp:lastModifiedBy>Adrian J Pullin</cp:lastModifiedBy>
  <dcterms:modified xsi:type="dcterms:W3CDTF">1999-10-28T17:58:32Z</dcterms:modified>
  <cp:revision>37</cp:revision>
  <dc:subject/>
  <dc:title>William Stallings Data and Computer Communications</dc:title>
</cp:coreProperties>
</file>